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6AD-DA68-4853-B489-93108EC5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559-7FC4-4FD2-B110-ACE9B2F3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859-56B5-4DA9-BF69-3AF1535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E67-4CF9-4AB9-A243-9E7E9C98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DC11-129E-4A98-91A2-2E244D09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F527-2771-4F34-80BD-5C24C2D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E4F-3AAC-48B4-9D73-D842D66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060-0BF7-4AB4-ACD7-E1C1E3B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698D-62EF-4572-A1B4-ABFA92E0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9D3-36BB-4E74-A9B5-EBC765D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4FA-02B2-4CA6-8644-330E712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289-4ED2-49A5-BDD9-20EC640A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1FC4-AEA4-4D15-B53C-F8389910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F697-C26B-4AF2-BAE1-1D8E727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3D07-0581-4B2E-A2D4-A215A98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9A38-91A2-41EC-91BC-3EB2C0B2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EE5-FEB8-41AD-A0EB-6A996065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012-F235-4BA1-8B7B-9FD0B7D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FEB-B7BC-4E05-A71B-6AE947B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10C-AC40-4803-A3D1-7560ECB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B4B-0948-4EA5-AF39-E320C19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70A-B10D-4518-B9E5-45A622D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918-3CB1-496D-ADDE-F589FC4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840-4396-4255-B410-F9A358B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F14-DEBA-4072-AD1A-302826F252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6A92-96E7-49B4-B3E3-6D55726357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xrx.net/WeightTraining/Guidelines.html" TargetMode="External"/><Relationship Id="rId2" Type="http://schemas.openxmlformats.org/officeDocument/2006/relationships/hyperlink" Target="http://www.exrx.net/ExInfo/WarmUp.html#anchor487985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Fitness Lecture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ness Termi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verlo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a muscle stronger it must work harder than it does at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-heart must beat faster and breathing must incr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-more repetitions of an exercise or increas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not to overdo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fic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rcise is specif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es will help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oading your muscles will make them str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good at a specific sport you must practice the skills required to play that 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 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s the body ready for rigorous exercise in two ph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Graduated aerobic warm-up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Stretching or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-up should be 5 to 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hold stretches for at least 20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Dow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ly decreasing the intensity of the activity you are perfo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ping suddenly can be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extremely important for people who are just starting a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 cool down should be 5 to 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FI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-Frequency, Intensity, and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number of times per week a person works 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ns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peed or workload of an activity (the level of intensity is very important for a progra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duration of an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imes/wk \ Target heart range \ 20-30 minu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eight Training /Weight Room Orient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 Weight training progra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ness bas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exrx.net/WeightTraining/Guidelines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body (Two sets-warm up and workout set)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exrx.net/ExInfo/WarmUp.html#anchor4879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e during clas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Ro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what you do when ever you are in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sheets will be in folder located in weight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get out of it what you put into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diovascular Endurance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for large muscl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to deliver oxygen to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component of fitness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s risk of heart disease, stroke, and high blood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conditioned heart supplies blood to the body while doing less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or muscle groups exerting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-lifting or resistance training is classic example of strength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weight with low reps increases muscle mass and streng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-twitch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twitch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scular Endur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for muscles to work strong without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urance training is required to achieve stam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eight training, light weight with high repetitions will work endu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lexib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of joints and muscles to achieve full range of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prevent injuries and keeps body feeling comfortable after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uild muscle does not mean you have to lose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erobic Exerc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s cardiovascular fitness by raising your pulse to a targeted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ed that you exercise target heart rate 3 times/wk for 30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exercise strengthens your lungs, helps control weight, increases flexibility, and reduces risk of inju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erobic Exerc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specific muscles and their size, endurance, and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 training is an exam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get Heart R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ptimal rate for burning fat and increasing cardiovascular endu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alculate range:  220-(your age) low end multiply by .6 (60%) for the high end multiply by .75 (7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lose weight and burn fat work out in this range for 20 to 30 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re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ually increase how hard, long, and many times you do an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ill take 6 to 8 weeks for physical improvements to be notic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feel better righ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07:17Z</dcterms:created>
  <dc:creator>user</dc:creator>
  <dc:description/>
  <dc:language>en-US</dc:language>
  <cp:lastModifiedBy>user</cp:lastModifiedBy>
  <dcterms:modified xsi:type="dcterms:W3CDTF">2007-01-24T21:41:17Z</dcterms:modified>
  <cp:revision>6</cp:revision>
  <dc:subject/>
  <dc:title>Physical Fitness Lecture </dc:title>
</cp:coreProperties>
</file>